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C4BC-2FE5-4AA1-9FC0-A04A1273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7682-888E-4FF7-836D-E0B8C46F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A9D5-351C-496C-8810-8D5A6142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A4D-7BC6-4AFD-90FD-152A912B4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444E-B2E6-4DB3-A7D1-7BD214C2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5808-290C-4D34-9D9E-7DB54594D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EE41-AB87-490F-AF3A-4E6FDC852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DD9-2EB1-401D-8B33-1E4CF237D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ED40-EEE5-4DF7-9CFA-0E7EEAE78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2044-6856-45E3-A8AD-732A6D5D3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4454-C35D-43F3-8257-302A665B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B237-DE20-4153-B1AA-BAD6B643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7413-845E-45E2-8A35-EB231B2DB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6F47-2732-4193-81A2-C7E08F43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29F1-CBBC-4804-813E-A4AA3C587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32F-3662-456B-951D-07E407F3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791-50E7-4049-8BA5-F599F9006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7E61-6079-4363-9B60-0C006686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1100-9152-4A5E-8E1E-F215BAEC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65E8-D9C2-4932-B49E-27B502CF5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DE53-814C-45B0-B3D4-A203881C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E86D-38F2-4313-BD6C-4708395C3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6088-3216-4044-A17F-E3C793376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661D-4C58-4957-85F2-5BB73597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AD6F-734D-463D-8473-A378ABA0C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C7E2-0EF7-4FDE-908A-539AAD90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3A64-A7E8-457E-9C1F-A6AC94B0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D29-9AC7-4B73-BE1D-9B2204E3D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B702-210F-457E-AC83-6632F7F4C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B632-BE48-4075-861E-2992CD70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5684-9D14-475E-8297-70DCB8CC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1233-40B4-4D3E-821D-6274CEA0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0E77-FDCA-45C7-9AB5-1A7C08428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DE89-906E-482A-A499-42D32851C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E961-3BA8-45E3-94B5-53FC77506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7943-936D-4F80-AF96-67630376F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CD2-BCAD-41B0-97B4-25FC27A5BD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4E8-9A57-4C6A-A5F1-4AC1A12490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9CF-EA5F-4E62-9B50-3050506783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6CF-AE68-4C00-8C06-D55F3C1449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34E-A3EE-48EE-9120-73E793F2B5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178-B413-4133-B609-D3D3C46B8B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CC8-6141-4812-9E31-01ABF200E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6959-6640-4B4E-8E80-03EEA5626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5A1-B0FF-4423-A6CB-7142BDFED8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048-28C1-4BD2-99E7-E527CBAE03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BED-6C59-4E6A-9EFC-9B55A7087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314-2C30-4511-AC75-0555950FA1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366-E17D-415E-A04F-3CBB9B7996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1F323-0B4A-4940-8B45-769F44139D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91BEA-C196-4BD8-8C57-A8C37BEAE0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C192A-9A04-4C14-A68B-98EA95356C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4357A-2333-4829-BD18-F3579110D0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E0274-CE40-473C-BA63-AA3748EE4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AC77-A552-4C31-835E-119758D96D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EFA98-F72D-4A38-B5A3-9AF130054D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6286A-0019-4841-ADCD-768B5157A3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AD8DD-0FAA-480C-9C53-6509207019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2702B-02E6-4BA5-B2DA-2B040E466F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64472-F90D-4EF2-AA52-4F9F0AC1EC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48BD8-9B75-4F80-9667-11B3BCC221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BDCB1-A7C3-40B0-944E-11D498EE0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590F-E97F-4480-9E69-870892CF8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64B5-1E57-4311-9753-7FC29D39D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66F1-D482-4417-8C75-C5FED26F7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06A1-667A-43C6-B563-6FFD74A7E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2ADF-1722-4731-8058-C5D452227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A046-04C9-4860-9D27-07DC40724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7681-CC28-4EE0-A619-792E8382E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D500-A4E1-4CEA-AB74-930561CF3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3EF9-EDFD-433D-A89F-836817DB4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1833480"/>
            <a:ext cx="701064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онтроль качества исследований на чувствительность к антимикробным препарат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9277-C3FA-4D28-A5B5-18257ECCB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колонии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C32A-878D-4F0A-B6A3-0414D31164D0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3702-9D8D-40F2-9279-63F0BD118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андарт МакФарланда 0,5 и доведенная суспензия исследуемого микроорганиз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3B37-97B0-456C-9C48-FB06D7EFE39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1220760" y="228600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8600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2E73-C062-454F-9850-F158FC0F8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974-3735-430E-B9D5-15EE0EA4C7E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ование диспенсеров для диск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765080"/>
            <a:ext cx="5181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о, быстр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ивает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теряют навыки распределе-ния дисков вручну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distributeur"/>
          <p:cNvPicPr/>
          <p:nvPr/>
        </p:nvPicPr>
        <p:blipFill>
          <a:blip r:embed="rId1"/>
          <a:stretch/>
        </p:blipFill>
        <p:spPr>
          <a:xfrm>
            <a:off x="5105520" y="1905120"/>
            <a:ext cx="38862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1987-A83C-4EA4-A7E7-EDF0998FB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1C53-E27D-471E-B399-F128EAD0126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58" name="Picture 12" descr="Too Heavy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09480" y="543564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257800" y="5334120"/>
            <a:ext cx="3124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ишком ГУСТОЙ пос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219B-60C1-4486-A441-834BADFBC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Disk moved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380880" y="3855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5800" y="525780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5410080" y="5265720"/>
            <a:ext cx="29718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неправильной формы, потому что диски расположены не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3DCA-4DFA-491F-9DC8-3AA972E62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C05B-A576-462C-88A5-9AD6E1FE522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3374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мерение размера зон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2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6127200" y="40384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64640" y="4038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тангенцир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еспечьте хорошее освещение, измеряйте с обратной стороны ч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разных антибиотиков разный размер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омочь увеличительн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миллиметры играют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75C0-52BA-42DF-9416-4FC989DD2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698040"/>
            <a:ext cx="84582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 градиента антибиотик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861-9ABB-4379-8B1E-A8189598741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B8C2-D422-432A-B93A-8F9EB251F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90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анализов будут неправильными, есл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 был неправильно идентифициров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сделана ошибка при записи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и выбраны неправильные антибио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исследована проба не того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запрошен неправильн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ыла обеспечена сохраннос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6C9F-9642-4251-86F7-4F197D8F4E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6B04-77DB-4C62-A1EA-A8F920D6CFC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я на чувствительность к антибиотик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5" name="Picture 4" descr="k_b"/>
          <p:cNvPicPr/>
          <p:nvPr/>
        </p:nvPicPr>
        <p:blipFill>
          <a:blip r:embed="rId1"/>
          <a:stretch/>
        </p:blipFill>
        <p:spPr>
          <a:xfrm>
            <a:off x="457200" y="1963800"/>
            <a:ext cx="1714680" cy="1668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96380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micmlc2"/>
          <p:cNvPicPr/>
          <p:nvPr/>
        </p:nvPicPr>
        <p:blipFill>
          <a:blip r:embed="rId3"/>
          <a:stretch/>
        </p:blipFill>
        <p:spPr>
          <a:xfrm>
            <a:off x="4114800" y="1963800"/>
            <a:ext cx="2209680" cy="174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vitek-2"/>
          <p:cNvPicPr/>
          <p:nvPr/>
        </p:nvPicPr>
        <p:blipFill>
          <a:blip r:embed="rId4"/>
          <a:stretch/>
        </p:blipFill>
        <p:spPr>
          <a:xfrm>
            <a:off x="6400800" y="1963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676440" y="4114800"/>
            <a:ext cx="79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оставляют информацию для выбора подходящих препаратов для антимикробного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C126-859E-4BFD-83F7-98EC16B9A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39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разных метод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качественные результаты в одной из категорий: чувствительные, промежуточные или устойчи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ы микроразведений и градиентной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ют количественный результат, минимальную ингибирующую концентр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797A-6D2C-4A6F-B795-AFE92903B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пределения чувств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685800" y="1143000"/>
            <a:ext cx="7558200" cy="5227560"/>
            <a:chOff x="685800" y="1143000"/>
            <a:chExt cx="7558200" cy="5227560"/>
          </a:xfrm>
        </p:grpSpPr>
        <p:pic>
          <p:nvPicPr>
            <p:cNvPr id="178" name="Picture 4" descr="PBL Susceptibility testing 2008"/>
            <p:cNvPicPr/>
            <p:nvPr/>
          </p:nvPicPr>
          <p:blipFill>
            <a:blip r:embed="rId1"/>
            <a:srcRect l="4364" t="8470" r="5455" b="8470"/>
            <a:stretch/>
          </p:blipFill>
          <p:spPr>
            <a:xfrm>
              <a:off x="685800" y="1143000"/>
              <a:ext cx="7558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"/>
            <p:cNvSpPr/>
            <p:nvPr/>
          </p:nvSpPr>
          <p:spPr>
            <a:xfrm>
              <a:off x="761760" y="2666880"/>
              <a:ext cx="1600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обирки со средой, бактериями и возрастающей концентрацией антибиоти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"/>
            <p:cNvSpPr/>
            <p:nvPr/>
          </p:nvSpPr>
          <p:spPr>
            <a:xfrm>
              <a:off x="972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1537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"/>
            <p:cNvSpPr/>
            <p:nvPr/>
          </p:nvSpPr>
          <p:spPr>
            <a:xfrm>
              <a:off x="2113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9"/>
            <p:cNvSpPr/>
            <p:nvPr/>
          </p:nvSpPr>
          <p:spPr>
            <a:xfrm>
              <a:off x="262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316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370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2216520" y="2895480"/>
              <a:ext cx="1061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иним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нгиб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3238560" y="2666880"/>
              <a:ext cx="163836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ерийные разведения в бульо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3708000" y="5486400"/>
              <a:ext cx="1702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иффузия в ага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858960" y="3869280"/>
              <a:ext cx="8334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растущи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838800" y="3557880"/>
              <a:ext cx="137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Чашка агара 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798840" y="3750480"/>
              <a:ext cx="89352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газ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2800" y="4038480"/>
              <a:ext cx="7920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бактер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1"/>
            <p:cNvSpPr/>
            <p:nvPr/>
          </p:nvSpPr>
          <p:spPr>
            <a:xfrm>
              <a:off x="2736000" y="556272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Разм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зо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2"/>
            <p:cNvSpPr/>
            <p:nvPr/>
          </p:nvSpPr>
          <p:spPr>
            <a:xfrm>
              <a:off x="2684160" y="4572000"/>
              <a:ext cx="897120" cy="483480"/>
            </a:xfrm>
            <a:prstGeom prst="rect">
              <a:avLst/>
            </a:prstGeom>
            <a:solidFill>
              <a:srgbClr val="fc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она задержки роста бактер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3"/>
            <p:cNvSpPr/>
            <p:nvPr/>
          </p:nvSpPr>
          <p:spPr>
            <a:xfrm>
              <a:off x="1617120" y="5014080"/>
              <a:ext cx="897120" cy="396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Диск, пропитанный антибиотик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4"/>
            <p:cNvSpPr/>
            <p:nvPr/>
          </p:nvSpPr>
          <p:spPr>
            <a:xfrm>
              <a:off x="1723680" y="541008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6"/>
            <p:cNvSpPr/>
            <p:nvPr/>
          </p:nvSpPr>
          <p:spPr>
            <a:xfrm>
              <a:off x="4876920" y="1260720"/>
              <a:ext cx="3200400" cy="20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Анализы на чувствительность определяют, будет ли бактериальный рост подавляться антибиотик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ость базируется на концентрации антибиотика, при которой нет заметного на глаз роста бактерий (см. МИК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8"/>
            <p:cNvSpPr/>
            <p:nvPr/>
          </p:nvSpPr>
          <p:spPr>
            <a:xfrm>
              <a:off x="4068000" y="4536000"/>
              <a:ext cx="5785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29" descr=""/>
            <p:cNvPicPr/>
            <p:nvPr/>
          </p:nvPicPr>
          <p:blipFill>
            <a:blip r:embed="rId2"/>
            <a:stretch/>
          </p:blipFill>
          <p:spPr>
            <a:xfrm>
              <a:off x="3584520" y="3474720"/>
              <a:ext cx="26208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0"/>
            <p:cNvSpPr/>
            <p:nvPr/>
          </p:nvSpPr>
          <p:spPr>
            <a:xfrm>
              <a:off x="4248000" y="3600000"/>
              <a:ext cx="126000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римеча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о размеру зоны можно вычислить МИК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4572000" y="3961080"/>
              <a:ext cx="104904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Чем меньше зона, тем выше МИК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2"/>
            <p:cNvSpPr/>
            <p:nvPr/>
          </p:nvSpPr>
          <p:spPr>
            <a:xfrm>
              <a:off x="5621400" y="3516840"/>
              <a:ext cx="2379960" cy="243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актерии считаются чувствительными к антибиотику, если подавление их роста происходит при такой концентрации антибиотика, которую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ЛЕГКО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оздать в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СЫВОРОТКЕ КРОВИ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пациента и которая будет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БЕЗОПАСНА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для пациент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 этом случае ожидается положительная реакция на лечени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тойчи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тивоположность чувствительны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E152-5FB6-4788-BC14-8806B5DCE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7FC4-2222-419A-9AE4-AED55DEF289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3017880"/>
            <a:ext cx="2556000" cy="3306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533520" y="1143000"/>
            <a:ext cx="82296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итут клинических и лабораторных стандартов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иологии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ной химиотерапии 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72200" y="3017880"/>
            <a:ext cx="2362320" cy="33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09" name="Object 6"/>
          <p:cNvGraphicFramePr/>
          <p:nvPr/>
        </p:nvGraphicFramePr>
        <p:xfrm>
          <a:off x="3429000" y="3017880"/>
          <a:ext cx="2490840" cy="33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017880"/>
                    <a:ext cx="2490840" cy="330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Text Box 8"/>
          <p:cNvSpPr/>
          <p:nvPr/>
        </p:nvSpPr>
        <p:spPr>
          <a:xfrm>
            <a:off x="45720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BC2-7BDB-4129-9556-FE1C8EDDE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647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ля примера – выдержка из одного из источников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br>
              <a:rPr sz="28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препаратов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F039-1600-4759-91A4-FAF4A0CAC39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14360" y="232560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32560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TextBox 1" descr=""/>
          <p:cNvPicPr/>
          <p:nvPr/>
        </p:nvPicPr>
        <p:blipFill>
          <a:blip r:embed="rId3"/>
          <a:stretch/>
        </p:blipFill>
        <p:spPr>
          <a:xfrm>
            <a:off x="609480" y="2925720"/>
            <a:ext cx="706680" cy="135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33520" y="2124000"/>
            <a:ext cx="7967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. Группы одобренных Управлением по продовольствию и медикаментам США антимикробных препаратов, рекомендуемые лабораториям клинической микробиологии для плановых анализов и отчетности по «непривередливым» микроорганизмам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6039-BC99-44F7-BC21-86568B947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DE7-BE31-47DC-A102-09BA05FC865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57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может быть источником ошибки в анализах на чувствитель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8104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икробиологические сре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тимикробные препара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льтура для пос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куб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орудовани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F1C1-8A68-4226-9A29-9F9E87265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578E-4E90-476B-8EB0-8C2EC4644A19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7162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тод диффузии в агар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52760"/>
            <a:ext cx="861048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т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юллер-Хинто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 7.2–7.4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у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биотика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евн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Фарланд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тери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уль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оста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ушная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мосферный возду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D0A4-F39F-4752-9D3E-322617A90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52E9-6FF5-4D3F-B061-4B9F15F8565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85800" y="38098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ы для КК должны быть получены из надежного источ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определенные микроорганизмы в анализах разных комбинаций «бактерии-антибиот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Olga</cp:lastModifiedBy>
  <dcterms:modified xsi:type="dcterms:W3CDTF">2013-05-12T11:00:29Z</dcterms:modified>
  <cp:revision>32</cp:revision>
  <dc:subject/>
  <dc:title>Microbiology QC</dc:title>
</cp:coreProperties>
</file>